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F48-88E7-4208-AC52-E622860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F7F-1897-4FF2-9060-49231C11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CEFC6-0A93-4ADC-B1CA-BBB10BE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0252-2DD4-4E0E-A18E-FF354604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06E2-38A2-4942-9F10-0588129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A61F7-7685-4A62-ACB7-B7653C6C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C4E13-3742-44D4-869E-56BD201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B792C-6479-4892-9303-62ED6AF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5B91-F6A9-4CFB-84C0-E49CB3D8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AFD4C-9BA6-462A-8A96-E5A702E6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3A97C-B749-4BA8-A9D4-150114BA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4A40B-F5A0-4654-9592-0C91C08D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1AB-EE39-4B11-8ADD-A6B6CC48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D0CFD-234D-4AD6-818D-F51807E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4A975-0D62-4326-BC38-F85A03E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B3279-5B1E-4089-8947-E6992DC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58955-B1D2-437C-A696-9DC6E81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1D912-CAE0-41E2-ADB4-B3DBCEA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FF109-5823-4E5B-A872-CD1CBB1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2C7BC-8D29-4AD7-A7E1-E9604B5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D4D4-6788-4151-A89B-D66C745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BF343-2495-423A-8DC3-6430A70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23D5C-E547-48BA-9C04-63A2E42C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D17-CB8E-45EC-A41F-13A09629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9B8EB-5B48-4D87-A039-264D8852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7823B-0262-4CC1-962A-E7EF7F33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DCC1-9D24-42ED-9F91-042B4575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37A64-1139-4938-B92C-6C64D38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0AD53-9668-4C8E-9DC9-D8037FD2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26CA0-6C40-4E3A-8ABF-C0F9DE1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32AB-95EB-497B-9674-230A261D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BB2E-1FB5-49EE-8DC4-8D6C42A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E4D27-298F-4C25-93E9-BA0FFA9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9FA52-7527-4B96-8A5A-F005D06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07F4-A3AF-448F-9C5A-945C6DDB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776A-58A7-47F7-8CBB-DA457B9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8721-D012-4BBB-A46A-43562C2F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32E4B-E25D-4480-A095-FA7C2C04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C84F-08D7-4E08-9008-4B6F289D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22758-4DD2-4C6C-8836-33038B3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EBA69-AB71-42E0-9270-26A8196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7BC3D-201C-4C6A-9177-5906BC9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851A7-5A82-4CDC-89C3-6CE7CFFF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7AD3B-C681-4A59-9313-3D01C5B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D6658-B645-4505-9A6F-638BE3E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6D2-5C97-4F1C-8C1C-109F12FA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98380-5056-4C4E-9DCC-AD8E8BD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AFEB1-AB07-4BA6-BBE0-7084D78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C90D1-F644-4242-9FCC-9BDCC31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F00EC-4354-49A6-A28B-F6D874FD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2A60E-E613-44DE-A11A-F25B1A61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FC556-B5A2-4B0F-BE99-A587A86A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C790D-84C2-4810-AA94-104CF16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89CAF-5F46-4286-A6CA-C6864B1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76EC1-C6C3-4FD8-9A27-D8634B1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30005-22C1-4ECB-AD62-6F8F8CDA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31B-90C3-4115-8BF5-7A0B258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DF600-6BA9-421B-8D48-4D7450C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B1005-EC68-412B-912F-2004385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BF0EF-85B1-49AA-A14C-9E34446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341C0-9B1A-448C-9846-11BB78B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CE3B8-49E0-40F9-9C9B-33AA957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0C82E-D04D-4EFF-B104-C6BCE3F2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D6834-3061-43C3-8028-B2F3AE2F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2EC1-0F12-4B71-9CB1-0CB17EA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1E2-1A9F-4690-8624-AF9D2176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7CD-4E63-4D7B-864D-2868A94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C4C9-3CE1-4474-8788-0F8E4E2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C2C-D464-4BB8-BDEF-C9BCD8F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3EE-6344-4577-B44A-CA03D99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8228-4309-42C8-9F54-3980BC2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62AC-4F09-4215-A4A0-F73317C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E86A-DE8E-446B-8E38-CEB129E5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C8D-6512-42E0-B9F7-4DA99640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6F24-A0EC-4D06-8FE9-3FFC47E1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8CA9-6385-4B96-827E-3FB9466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30DA-FFE6-4B85-983A-E33EA24B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5624-A883-4967-884C-0D62A0D4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57AB-6023-4344-BE9F-7EEFEC21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A5B-AFF1-491D-8DDC-B9F47F7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C9FB-6CA6-4A81-BFFC-3CBA6ABB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93CE-B212-418C-A0AA-F1E6558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B2A4-9F05-47A1-BCBC-6614BCD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5ABD-BD65-4802-B1F3-5E3BA56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1C3D-9F8F-4A2F-BB98-778BBD4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5C74-7D06-453D-9D20-1FEDF8D8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D5FE-DE59-4932-9FA5-E2A13C16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4032-7E7E-4AF1-9858-2B6924BA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BEA3-7AE6-40AB-9763-68297B35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E9A2-255F-48D6-B203-C989F09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A7F-5A9F-4AD0-8D49-898914EE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73DA-4766-4AC3-9F73-E0568E3E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D70F-6C86-48CF-B43B-8F1E7B5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B5EA-D2A4-4E6D-B767-FE27472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68D2-D156-4CD2-BB35-920CCDA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4A06-3F6F-42DE-88AD-9200A94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9E06-7A4B-4766-8DD2-E4281F1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9BB8-85AB-4E6A-8958-60A12D7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4784-DDAE-49C5-9214-E440ABB4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67B8-79A3-433A-B397-D296C790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BAB80-C00A-42A5-A10B-A56CE713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010-5F2E-492C-873C-FF9EE2B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621E-6DB7-4061-859D-F5682FB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D165C-E4C5-423D-8C45-3B3854C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2F35-ED55-43CA-AF58-04B51D1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6402-06AA-4256-8DC7-7F456F56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D4F8-7234-4200-93E5-EE0B02D2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F4CE-DA52-43AF-BD66-A72A757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9478-F7FD-4C35-9CB4-845E5E5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19F9-FB0F-4EC2-ACC4-6EA891B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82E4-D2E9-46C6-A954-17A479D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C239-D1F2-4CF6-8063-F14EB46F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D66-08EB-4390-84CE-716477B2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F4DE-97EB-4E81-9B71-1631E570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172B-2AAE-4E42-848F-C2C523D8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DC59B-AA3E-4E47-A4A5-8B58F01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2FEE1-25E3-46F7-A5C3-65A77806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BEE5-3A15-4023-940E-9FF0765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45974-E1F5-4968-8A02-1EC3A462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F694-6845-401B-BD64-59DCF95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5EBB-FEDF-4909-BF41-73B50C4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8E7D-CCF6-4FAE-AA67-DD0DB3B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41EA-9813-48BD-874D-2ED069D3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6C2-C6F6-40F3-8DA2-246664A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4CEB-1E6C-4255-88C4-B13B29C3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DFDC-F0D1-4343-8363-86139BE1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D5B8-31F4-4836-A55F-92B4EB66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C559-156B-4F58-8EC1-20B1440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8BE2-6036-4667-AB2B-A94843E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2183-57B3-4B45-95C7-4200973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E1F1-8A4D-4BB8-8175-6C33DCC4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FC01D-6CB5-448B-A237-59ACCA0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9589-4BC8-49EF-8169-A0FE050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C9E2-2FCF-47AC-BECC-8C378E8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6BF-783A-451C-BD24-73770B5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6BDF-F333-44E3-94A1-5055CF4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BE43-00F0-46A5-8637-D1FED53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1823-A573-46BF-83F3-60626B9B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DE1E2-C9C7-43EA-A372-2CB0FB1A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509F-2E16-4BED-B173-8979E16E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0F1C5-043D-429A-8BD6-E531AAEE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5EC1-DC03-42DF-89CE-9A62491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CFB9-AEC7-4BE9-8991-53F62FF1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CF75-7685-4E90-9152-4144031E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7457F-F4CF-45AF-A2FD-470E792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CC1-9086-454B-ADF3-4796AB1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B3A1C-F876-4CE0-919B-A271A07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3C88B-2589-4F98-9AE7-706B6BEE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063E-047F-41CB-B1AB-FC43E19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1283-E46A-4357-AE90-2129DE1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A967-0D25-42B9-8D2C-89C21C1C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3E8A6-843B-44F8-8017-E26006DD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6B40-42C8-43EC-942B-50948495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F0CC-849F-4D79-B946-FFE8797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E7F24-5A27-43B1-827E-3A8C1380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F37AB-D8B6-49DC-99C5-F3035FC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532-A199-4E99-94A7-0C79B6BFEC55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53D9-3B33-467D-BB59-5EB6A7EDA2E5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05F-F167-404A-9540-8F16BD410B6B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2F7-F67D-48D8-A04B-8AB59A8F2A9B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54CB-0B5C-418E-87B2-FE325CF5D6A8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C5E-FA83-4071-9F0D-F8395BCD8A66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833-EB89-48D3-B650-3238AC8A4472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233B-BA3B-40F9-96A8-8CEEAAC14213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E96-F48E-4A4A-8653-95548093F9B0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B6A2-19DC-4AA1-9031-1690610616E4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BCE-5D8B-4BCB-B55A-5C3C9372AC41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653E-FE30-44FA-9F5A-397B00EC81A5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D8A-C249-49B3-87E1-34105766BFD5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9B2-3DC5-4197-9E30-159DC96628E8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2116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A971-DB44-439E-9FBE-19B067B7B0B3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118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118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AC6-2E29-4358-A065-AE1F3BEE7167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447-9A49-40A9-A93A-621A83C62C51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708-C1A5-449E-B593-B8D79FB52907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F2AD-ED4D-45B6-B087-14761AEEA915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CF30-752C-4199-9F5B-BA2B66FD53CF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686-B917-44B3-A432-3DF67A4BDD3B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247-76EB-45E4-A999-4B5BB324A576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53A-F17D-412D-A8D7-CA2CC3733B5B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80E2-7CA4-4AF2-81DA-25E76C68FF8D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92C-45E4-44BB-9035-08082A2998F2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511-27D1-48A5-9D97-A1477B5FE146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382680" y="80316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Inventory, Jan. 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38,7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purchases from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125,4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of merchandise available for s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364,2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382680" y="202392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sales for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6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year’s gross profit percen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48.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gross profit on 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99,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382680" y="324180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sales for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$206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gross profit on 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99,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cost of merchandise s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107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382680" y="446256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of merchandise available for s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64,2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cost of merchandise s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107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ending merchandise inven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256,9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Rectangle 2" descr=""/>
          <p:cNvPicPr/>
          <p:nvPr/>
        </p:nvPicPr>
        <p:blipFill>
          <a:blip r:embed="rId2"/>
          <a:stretch/>
        </p:blipFill>
        <p:spPr>
          <a:xfrm>
            <a:off x="-19080" y="-60480"/>
            <a:ext cx="9175680" cy="129240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8"/>
          <p:cNvSpPr/>
          <p:nvPr/>
        </p:nvSpPr>
        <p:spPr>
          <a:xfrm>
            <a:off x="8458200" y="2479680"/>
            <a:ext cx="228600" cy="12193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9"/>
          <p:cNvSpPr/>
          <p:nvPr/>
        </p:nvSpPr>
        <p:spPr>
          <a:xfrm>
            <a:off x="8458200" y="1911240"/>
            <a:ext cx="380880" cy="30481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0"/>
          <p:cNvSpPr/>
          <p:nvPr/>
        </p:nvSpPr>
        <p:spPr>
          <a:xfrm>
            <a:off x="6477120" y="3130560"/>
            <a:ext cx="609480" cy="914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1"/>
          <p:cNvSpPr/>
          <p:nvPr/>
        </p:nvSpPr>
        <p:spPr>
          <a:xfrm>
            <a:off x="6477120" y="4384800"/>
            <a:ext cx="609480" cy="914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3, page 5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17"/>
          <p:cNvGrpSpPr/>
          <p:nvPr/>
        </p:nvGrpSpPr>
        <p:grpSpPr>
          <a:xfrm>
            <a:off x="1905120" y="5603760"/>
            <a:ext cx="5199120" cy="1254240"/>
            <a:chOff x="1905120" y="5603760"/>
            <a:chExt cx="5199120" cy="1254240"/>
          </a:xfrm>
        </p:grpSpPr>
        <p:sp>
          <p:nvSpPr>
            <p:cNvPr id="544" name="Freeform 7"/>
            <p:cNvSpPr/>
            <p:nvPr/>
          </p:nvSpPr>
          <p:spPr>
            <a:xfrm>
              <a:off x="4284720" y="5603760"/>
              <a:ext cx="2819520" cy="12542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6"/>
            <p:cNvSpPr/>
            <p:nvPr/>
          </p:nvSpPr>
          <p:spPr>
            <a:xfrm>
              <a:off x="1905120" y="5826240"/>
              <a:ext cx="2682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ab5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Ending Inventory to Income 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D:\C21 PowerPoint\Multi_Journal\art for blue\Ch22\Ch22-03a.jpg"/>
          <p:cNvPicPr/>
          <p:nvPr/>
        </p:nvPicPr>
        <p:blipFill>
          <a:blip r:embed="rId2"/>
          <a:srcRect l="26173" t="0" r="0" b="47344"/>
          <a:stretch/>
        </p:blipFill>
        <p:spPr>
          <a:xfrm>
            <a:off x="439560" y="914400"/>
            <a:ext cx="8094960" cy="5257800"/>
          </a:xfrm>
          <a:prstGeom prst="rect">
            <a:avLst/>
          </a:prstGeom>
          <a:ln w="0">
            <a:noFill/>
          </a:ln>
        </p:spPr>
      </p:pic>
      <p:pic>
        <p:nvPicPr>
          <p:cNvPr id="547" name="Rectangle 4" descr=""/>
          <p:cNvPicPr/>
          <p:nvPr/>
        </p:nvPicPr>
        <p:blipFill>
          <a:blip r:embed="rId3"/>
          <a:stretch/>
        </p:blipFill>
        <p:spPr>
          <a:xfrm>
            <a:off x="-19080" y="30240"/>
            <a:ext cx="9175680" cy="744480"/>
          </a:xfrm>
          <a:prstGeom prst="rect">
            <a:avLst/>
          </a:prstGeom>
          <a:ln w="0">
            <a:noFill/>
          </a:ln>
        </p:spPr>
      </p:pic>
      <p:sp>
        <p:nvSpPr>
          <p:cNvPr id="548" name="Freeform 6"/>
          <p:cNvSpPr/>
          <p:nvPr/>
        </p:nvSpPr>
        <p:spPr>
          <a:xfrm>
            <a:off x="4284720" y="-76320"/>
            <a:ext cx="457200" cy="46483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20:14:34Z</cp:lastPrinted>
  <dcterms:modified xsi:type="dcterms:W3CDTF">2011-10-30T20:58:42Z</dcterms:modified>
  <cp:revision>69</cp:revision>
  <dc:subject/>
  <dc:title>ADJUSTING ENTRY FOR SUPPLIES</dc:title>
</cp:coreProperties>
</file>